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9AFC-13D2-4A34-8FEC-114EC542F3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EB76-ECCC-4653-AAE2-E35772CEF1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E873-46A9-4072-9C6F-497FED04C3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731-4744-4C1F-87C1-5E8B5EB6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EB4-E40A-4878-A57C-65C5DE78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142-E0D6-4D4D-B4FB-C0A3B6C3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DE0-17AA-4009-85A0-7CE8CC8D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F0A-1B13-4F97-9F8C-33AC2E86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78D-1BDC-4EB9-ACD4-E483F124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C2E-CB76-47C5-920B-C0AEA278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474-59D3-4B4B-AB91-14F3C30B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CCB-EFDF-4634-B6B3-AB567DED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084-8B2C-4A43-8B19-1F3339F0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2C1-A6E7-4CA1-8046-D23ED361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F1B-5B67-4C9B-A4FA-45881CEE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C811-03C5-4C9E-BC15-2B0FA559C2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Century Gothic"/>
              </a:rPr>
              <a:t>Data: 18 de fevereir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2938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d4d4d"/>
                </a:solidFill>
                <a:latin typeface="Century Gothic"/>
              </a:rPr>
              <a:t>Relatório de Situ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Logo FEAM"/>
          <p:cNvPicPr/>
          <p:nvPr/>
        </p:nvPicPr>
        <p:blipFill>
          <a:blip r:embed="rId1"/>
          <a:srcRect l="0" t="-4141" r="-3371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logo ief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LogoIGAM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logo 2007 Governo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2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3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ató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15"/>
          <p:cNvSpPr/>
          <p:nvPr/>
        </p:nvSpPr>
        <p:spPr>
          <a:xfrm>
            <a:off x="393480" y="2214720"/>
            <a:ext cx="657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6666"/>
                </a:solidFill>
                <a:uFillTx/>
                <a:latin typeface="Tahoma"/>
              </a:rPr>
              <a:t>Funções do Relatório de Situação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Programação Mensal da De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Acompanhamento de Etapas e Marcos Pactu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Levantamentos de dificuldades e risc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11"/>
          <a:srcRect l="3126" t="25586" r="3126" b="8986"/>
          <a:stretch/>
        </p:blipFill>
        <p:spPr>
          <a:xfrm>
            <a:off x="0" y="1643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2" name="Texto explicativo retangular com cantos arredondados 24"/>
          <p:cNvSpPr/>
          <p:nvPr/>
        </p:nvSpPr>
        <p:spPr>
          <a:xfrm>
            <a:off x="5000760" y="2928960"/>
            <a:ext cx="2700360" cy="164304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úmero informado pela setor  requisitante que servirá para acompanhamento do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 explicativo retangular com cantos arredondados 25"/>
          <p:cNvSpPr/>
          <p:nvPr/>
        </p:nvSpPr>
        <p:spPr>
          <a:xfrm>
            <a:off x="0" y="3286080"/>
            <a:ext cx="2700360" cy="164304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na lista a entidade: SEMAD, FEAM, IEF e I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 explicativo retangular com cantos arredondados 27"/>
          <p:cNvSpPr/>
          <p:nvPr/>
        </p:nvSpPr>
        <p:spPr>
          <a:xfrm>
            <a:off x="214200" y="3786120"/>
            <a:ext cx="2700360" cy="228600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na list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uperintendência, no caso da SEMAD, e Diretorias  no caso da FEAM, IEF e I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 explicativo retangular com cantos arredondados 30"/>
          <p:cNvSpPr/>
          <p:nvPr/>
        </p:nvSpPr>
        <p:spPr>
          <a:xfrm>
            <a:off x="3357720" y="3786120"/>
            <a:ext cx="2714400" cy="228600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na list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ordenadoria ou Diretoria, no caso da SEMAD, e Gerências   no caso da FEAM, IEF e I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 explicativo retangular com cantos arredondados 32"/>
          <p:cNvSpPr/>
          <p:nvPr/>
        </p:nvSpPr>
        <p:spPr>
          <a:xfrm>
            <a:off x="1500120" y="3929040"/>
            <a:ext cx="2700360" cy="2286000"/>
          </a:xfrm>
          <a:prstGeom prst="wedgeRoundRectCallout">
            <a:avLst>
              <a:gd name="adj1" fmla="val -53328"/>
              <a:gd name="adj2" fmla="val -8134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a classificação do Projeto, conforme opções da Lista: Estruturador,  Associado e E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1"/>
          <a:srcRect l="3126" t="25586" r="3126" b="8986"/>
          <a:stretch/>
        </p:blipFill>
        <p:spPr>
          <a:xfrm>
            <a:off x="0" y="1643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9" name="Texto explicativo retangular com cantos arredondados 32"/>
          <p:cNvSpPr/>
          <p:nvPr/>
        </p:nvSpPr>
        <p:spPr>
          <a:xfrm>
            <a:off x="1571760" y="4143240"/>
            <a:ext cx="2700360" cy="2286000"/>
          </a:xfrm>
          <a:prstGeom prst="wedgeRoundRectCallout">
            <a:avLst>
              <a:gd name="adj1" fmla="val -53328"/>
              <a:gd name="adj2" fmla="val -8134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 nome do Projeto ou Programa, conforme opções da 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 explicativo retangular com cantos arredondados 15"/>
          <p:cNvSpPr/>
          <p:nvPr/>
        </p:nvSpPr>
        <p:spPr>
          <a:xfrm>
            <a:off x="5786280" y="4286160"/>
            <a:ext cx="2700360" cy="2286000"/>
          </a:xfrm>
          <a:prstGeom prst="wedgeRoundRectCallout">
            <a:avLst>
              <a:gd name="adj1" fmla="val -37490"/>
              <a:gd name="adj2" fmla="val -8779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 nome do Gerente  Projeto somente no caso do Projeto   Estrutur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 explicativo retangular com cantos arredondados 16"/>
          <p:cNvSpPr/>
          <p:nvPr/>
        </p:nvSpPr>
        <p:spPr>
          <a:xfrm>
            <a:off x="214200" y="4572000"/>
            <a:ext cx="2700360" cy="2286000"/>
          </a:xfrm>
          <a:prstGeom prst="wedgeRoundRectCallout">
            <a:avLst>
              <a:gd name="adj1" fmla="val -4722"/>
              <a:gd name="adj2" fmla="val -8456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 o nome da Ação conforme opções da 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 explicativo retangular com cantos arredondados 17"/>
          <p:cNvSpPr/>
          <p:nvPr/>
        </p:nvSpPr>
        <p:spPr>
          <a:xfrm>
            <a:off x="5857920" y="4572000"/>
            <a:ext cx="2700360" cy="2286000"/>
          </a:xfrm>
          <a:prstGeom prst="wedgeRoundRectCallout">
            <a:avLst>
              <a:gd name="adj1" fmla="val -53328"/>
              <a:gd name="adj2" fmla="val -8134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 nome do Responsável ou Ordenador responsável pela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 explicativo retangular com cantos arredondados 18"/>
          <p:cNvSpPr/>
          <p:nvPr/>
        </p:nvSpPr>
        <p:spPr>
          <a:xfrm>
            <a:off x="2286000" y="2357280"/>
            <a:ext cx="2700360" cy="2286000"/>
          </a:xfrm>
          <a:prstGeom prst="wedgeRoundRectCallout">
            <a:avLst>
              <a:gd name="adj1" fmla="val -120509"/>
              <a:gd name="adj2" fmla="val 4446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selecionar o número da Ação. Esse número deverá ser o mesmo número que aparece automaticamente ao escolher a  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1"/>
          <a:srcRect l="3126" t="25586" r="3126" b="8986"/>
          <a:stretch/>
        </p:blipFill>
        <p:spPr>
          <a:xfrm>
            <a:off x="0" y="1643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16" name="Texto explicativo retangular com cantos arredondados 32"/>
          <p:cNvSpPr/>
          <p:nvPr/>
        </p:nvSpPr>
        <p:spPr>
          <a:xfrm>
            <a:off x="857160" y="100008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o Grupo de Despesa – Crédito Autorizado que será utilizado. As opões aparecem automaticamente conforme o número da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 explicativo retangular com cantos arredondados 19"/>
          <p:cNvSpPr/>
          <p:nvPr/>
        </p:nvSpPr>
        <p:spPr>
          <a:xfrm>
            <a:off x="1714680" y="928800"/>
            <a:ext cx="2700000" cy="271440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formar o valor liberado acumulado n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 explicativo retangular com cantos arredondados 20"/>
          <p:cNvSpPr/>
          <p:nvPr/>
        </p:nvSpPr>
        <p:spPr>
          <a:xfrm>
            <a:off x="2786040" y="928800"/>
            <a:ext cx="2700360" cy="271440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formar o valor utilizado acumulado n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 explicativo retangular com cantos arredondados 21"/>
          <p:cNvSpPr/>
          <p:nvPr/>
        </p:nvSpPr>
        <p:spPr>
          <a:xfrm>
            <a:off x="3571920" y="85716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valor solicitado no mês é preenchido automaticamente conforme a Programação de Desp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 explicativo retangular com cantos arredondados 22"/>
          <p:cNvSpPr/>
          <p:nvPr/>
        </p:nvSpPr>
        <p:spPr>
          <a:xfrm>
            <a:off x="4429080" y="928800"/>
            <a:ext cx="2700360" cy="271440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formar o valor do saldo anual  que será  o Crédito Autorizado subtraído do Crédito Liberado no 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 explicativo retangular com cantos arredondados 23"/>
          <p:cNvSpPr/>
          <p:nvPr/>
        </p:nvSpPr>
        <p:spPr>
          <a:xfrm>
            <a:off x="428760" y="1000080"/>
            <a:ext cx="2700360" cy="3857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preencher quais são as etapas ou marcos, conforme acordado com o GERAES/SEPLAG, no caso dos Projetos Estruturadores, e com a SIL no caso dos demais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 explicativo retangular com cantos arredondados 24"/>
          <p:cNvSpPr/>
          <p:nvPr/>
        </p:nvSpPr>
        <p:spPr>
          <a:xfrm>
            <a:off x="328608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o alcançado mensal da Etapa ou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 explicativo retangular com cantos arredondados 25"/>
          <p:cNvSpPr/>
          <p:nvPr/>
        </p:nvSpPr>
        <p:spPr>
          <a:xfrm>
            <a:off x="435780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de término planejado conforme o acordado com a SEPLAG ou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 explicativo retangular com cantos arredondados 26"/>
          <p:cNvSpPr/>
          <p:nvPr/>
        </p:nvSpPr>
        <p:spPr>
          <a:xfrm>
            <a:off x="1071720" y="2428920"/>
            <a:ext cx="5000400" cy="2714760"/>
          </a:xfrm>
          <a:prstGeom prst="wedgeRoundRectCallout">
            <a:avLst>
              <a:gd name="adj1" fmla="val 55518"/>
              <a:gd name="adj2" fmla="val 7115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prevista de término da Etapa ou Marco.  Para as etapas que estão ocorrendo dentro da sua normalidade a data de previsão de término será a mesma que o Término Planejado. Já para as etapas que  estão atrasadas, o responsável deverá informar a nova data de conclusão previ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 explicativo retangular com cantos arredondados 27"/>
          <p:cNvSpPr/>
          <p:nvPr/>
        </p:nvSpPr>
        <p:spPr>
          <a:xfrm>
            <a:off x="1785960" y="2428920"/>
            <a:ext cx="6700680" cy="2714760"/>
          </a:xfrm>
          <a:prstGeom prst="wedgeRoundRectCallout">
            <a:avLst>
              <a:gd name="adj1" fmla="val 33884"/>
              <a:gd name="adj2" fmla="val 68435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Farol é um indicador visual de acompanhamento da etapa ou marco. A regra 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Vede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 para etapas que terminaram na data planej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Amarel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 para etapas com previsão de término para até 60 dias além do planej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Vermelh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 para etapas com previsão de término para além de 60 dias da data planej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 explicativo retangular com cantos arredondados 25"/>
          <p:cNvSpPr/>
          <p:nvPr/>
        </p:nvSpPr>
        <p:spPr>
          <a:xfrm>
            <a:off x="435780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de término planejado conforme o acordado com a SEPLAG ou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1"/>
          <a:srcRect l="3126" t="23632" r="3126" b="9961"/>
          <a:stretch/>
        </p:blipFill>
        <p:spPr>
          <a:xfrm>
            <a:off x="0" y="150012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139" name="Texto explicativo retangular com cantos arredondados 28"/>
          <p:cNvSpPr/>
          <p:nvPr/>
        </p:nvSpPr>
        <p:spPr>
          <a:xfrm>
            <a:off x="0" y="2928960"/>
            <a:ext cx="2700360" cy="2286000"/>
          </a:xfrm>
          <a:prstGeom prst="wedgeRoundRectCallout">
            <a:avLst>
              <a:gd name="adj1" fmla="val -13824"/>
              <a:gd name="adj2" fmla="val -8376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descrever a despesa solicitada, escolhendo as opções d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 explicativo retangular com cantos arredondados 29"/>
          <p:cNvSpPr/>
          <p:nvPr/>
        </p:nvSpPr>
        <p:spPr>
          <a:xfrm>
            <a:off x="285840" y="3000240"/>
            <a:ext cx="2700360" cy="2286000"/>
          </a:xfrm>
          <a:prstGeom prst="wedgeRoundRectCallout">
            <a:avLst>
              <a:gd name="adj1" fmla="val 32351"/>
              <a:gd name="adj2" fmla="val -8618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a GF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 explicativo retangular com cantos arredondados 30"/>
          <p:cNvSpPr/>
          <p:nvPr/>
        </p:nvSpPr>
        <p:spPr>
          <a:xfrm>
            <a:off x="428760" y="3071880"/>
            <a:ext cx="2700360" cy="2286000"/>
          </a:xfrm>
          <a:prstGeom prst="wedgeRoundRectCallout">
            <a:avLst>
              <a:gd name="adj1" fmla="val 70833"/>
              <a:gd name="adj2" fmla="val -8679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a quantidade do item solic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 explicativo retangular com cantos arredondados 31"/>
          <p:cNvSpPr/>
          <p:nvPr/>
        </p:nvSpPr>
        <p:spPr>
          <a:xfrm>
            <a:off x="152280" y="3081240"/>
            <a:ext cx="2700360" cy="2286000"/>
          </a:xfrm>
          <a:prstGeom prst="wedgeRoundRectCallout">
            <a:avLst>
              <a:gd name="adj1" fmla="val 132398"/>
              <a:gd name="adj2" fmla="val -9285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valor unit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 explicativo retangular com cantos arredondados 33"/>
          <p:cNvSpPr/>
          <p:nvPr/>
        </p:nvSpPr>
        <p:spPr>
          <a:xfrm>
            <a:off x="304920" y="3233880"/>
            <a:ext cx="2700360" cy="2286000"/>
          </a:xfrm>
          <a:prstGeom prst="wedgeRoundRectCallout">
            <a:avLst>
              <a:gd name="adj1" fmla="val 179087"/>
              <a:gd name="adj2" fmla="val -9406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do automat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 explicativo retangular com cantos arredondados 34"/>
          <p:cNvSpPr/>
          <p:nvPr/>
        </p:nvSpPr>
        <p:spPr>
          <a:xfrm>
            <a:off x="457200" y="3386160"/>
            <a:ext cx="2700360" cy="2286000"/>
          </a:xfrm>
          <a:prstGeom prst="wedgeRoundRectCallout">
            <a:avLst>
              <a:gd name="adj1" fmla="val 231935"/>
              <a:gd name="adj2" fmla="val -10194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descrever o motivo pelo qual está solicitando o recu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 explicativo retangular com cantos arredondados 25"/>
          <p:cNvSpPr/>
          <p:nvPr/>
        </p:nvSpPr>
        <p:spPr>
          <a:xfrm>
            <a:off x="435780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de término planejado conforme o acordado com a SEPLAG ou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1"/>
          <a:srcRect l="3126" t="23632" r="3126" b="9961"/>
          <a:stretch/>
        </p:blipFill>
        <p:spPr>
          <a:xfrm>
            <a:off x="0" y="150012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158" name="Texto explicativo retangular com cantos arredondados 17"/>
          <p:cNvSpPr/>
          <p:nvPr/>
        </p:nvSpPr>
        <p:spPr>
          <a:xfrm>
            <a:off x="0" y="642960"/>
            <a:ext cx="2700360" cy="2286000"/>
          </a:xfrm>
          <a:prstGeom prst="wedgeRoundRectCallout">
            <a:avLst>
              <a:gd name="adj1" fmla="val -3995"/>
              <a:gd name="adj2" fmla="val 64620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nome do servidor que viaj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 explicativo retangular com cantos arredondados 18"/>
          <p:cNvSpPr/>
          <p:nvPr/>
        </p:nvSpPr>
        <p:spPr>
          <a:xfrm>
            <a:off x="3800520" y="642960"/>
            <a:ext cx="2700360" cy="2286000"/>
          </a:xfrm>
          <a:prstGeom prst="wedgeRoundRectCallout">
            <a:avLst>
              <a:gd name="adj1" fmla="val 131453"/>
              <a:gd name="adj2" fmla="val 71717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motivo da vi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 explicativo retangular com cantos arredondados 20"/>
          <p:cNvSpPr/>
          <p:nvPr/>
        </p:nvSpPr>
        <p:spPr>
          <a:xfrm>
            <a:off x="1000080" y="714240"/>
            <a:ext cx="2700360" cy="3133800"/>
          </a:xfrm>
          <a:prstGeom prst="wedgeRoundRectCallout">
            <a:avLst>
              <a:gd name="adj1" fmla="val 33689"/>
              <a:gd name="adj2" fmla="val 6325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mpo opcional que o setor solicitante poderá preencher no caso de alguma dificuldade encontrada para realizar etapas, marcos ou até mesmo 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o explicativo retangular com cantos arredondados 21"/>
          <p:cNvSpPr/>
          <p:nvPr/>
        </p:nvSpPr>
        <p:spPr>
          <a:xfrm>
            <a:off x="3357720" y="1857240"/>
            <a:ext cx="2700360" cy="2286000"/>
          </a:xfrm>
          <a:prstGeom prst="wedgeRoundRectCallout">
            <a:avLst>
              <a:gd name="adj1" fmla="val -3995"/>
              <a:gd name="adj2" fmla="val 64620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informará  a ação de contramedida para atenuar ou evitar a situação probl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 explicativo retangular com cantos arredondados 22"/>
          <p:cNvSpPr/>
          <p:nvPr/>
        </p:nvSpPr>
        <p:spPr>
          <a:xfrm>
            <a:off x="5500800" y="1643040"/>
            <a:ext cx="2700360" cy="2286000"/>
          </a:xfrm>
          <a:prstGeom prst="wedgeRoundRectCallout">
            <a:avLst>
              <a:gd name="adj1" fmla="val -8912"/>
              <a:gd name="adj2" fmla="val 76231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informará  o responsável  pela contramed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 explicativo retangular com cantos arredondados 23"/>
          <p:cNvSpPr/>
          <p:nvPr/>
        </p:nvSpPr>
        <p:spPr>
          <a:xfrm>
            <a:off x="5653080" y="1795320"/>
            <a:ext cx="2700360" cy="2286000"/>
          </a:xfrm>
          <a:prstGeom prst="wedgeRoundRectCallout">
            <a:avLst>
              <a:gd name="adj1" fmla="val 23861"/>
              <a:gd name="adj2" fmla="val 66555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informará  uma data plausível para o responsável  adotar a  contramed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 explicativo retangular com cantos arredondados 26"/>
          <p:cNvSpPr/>
          <p:nvPr/>
        </p:nvSpPr>
        <p:spPr>
          <a:xfrm>
            <a:off x="2357280" y="3071880"/>
            <a:ext cx="2700360" cy="2286000"/>
          </a:xfrm>
          <a:prstGeom prst="wedgeRoundRectCallout">
            <a:avLst>
              <a:gd name="adj1" fmla="val 23861"/>
              <a:gd name="adj2" fmla="val 66555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ssinatura dos responsá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8:22:08Z</dcterms:created>
  <dc:creator>João Paulo de Souza Mairinque</dc:creator>
  <dc:description/>
  <dc:language>en-US</dc:language>
  <cp:lastModifiedBy>João Paulo de Souza Mairinque</cp:lastModifiedBy>
  <dcterms:modified xsi:type="dcterms:W3CDTF">2008-02-17T21:21:24Z</dcterms:modified>
  <cp:revision>20</cp:revision>
  <dc:subject/>
  <dc:title>Slide 1</dc:title>
</cp:coreProperties>
</file>