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4F8-0BD8-4F3D-A7B3-4ADCD413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077-3A87-4D93-8916-53A75CD5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EBD-F5FC-46BC-80BD-9C896703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13E-BB3B-456D-8625-70F348F5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FE7-FA29-4333-B584-40EB9B69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148-6E01-40D5-B281-BD357494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AC4-8837-40A0-8047-D12B8C7F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0A5-8F31-49D3-BA7D-33DC98B0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0ED-823C-4215-9D37-0C42577B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449-F461-4CEA-B162-688A1567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EE2-7C8C-4734-BE7C-EC5516CF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3E4-620F-45F1-A2EE-39DA7A6D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91E6-9997-4388-A266-86E6D38BD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hyperlink" Target="mailto:orcamento@semad.mg.gov.br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ogo ief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ogoIGAM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0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21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2" descr="logo governo 2007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458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907920"/>
          <a:ext cx="8147160" cy="5326200"/>
        </p:xfrm>
        <a:graphic>
          <a:graphicData uri="http://schemas.openxmlformats.org/drawingml/2006/table">
            <a:tbl>
              <a:tblPr/>
              <a:tblGrid>
                <a:gridCol w="1141560"/>
                <a:gridCol w="771480"/>
                <a:gridCol w="4402080"/>
                <a:gridCol w="1832040"/>
              </a:tblGrid>
              <a:tr h="271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ão Ambiental Descentralizada – Escritórios Region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rowSpan="1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pliação da Base Florestal Prod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oção do Desenv. Tecnológico da Silvicultura de Espécies N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ação e Implantação de Áreas Protegi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etivação do Uso Público de Unidades de Conserv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pliação das Áreas de Vegetação Nativa e Promoção da Conectividade entre Fragmentos Florestais - PROM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ão e Evolução dos Instrumentos Norma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venção e Combate a Incêndios Flores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ompartilhada da Fa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ção da Biodivers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talecimento da Gestão das Unidades de Conserv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cionantes Ambien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orporação dos Instrumentos de Pagamento de Serviços Ambien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alização e Monitoramento das Atividades de Exploração, Transporte e Consumo de Produtos da Fauna e Flo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Eletrônico do Transporte do Carvão Vege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financiamento de Implantação de Centro de Pesquisa e Difusão de Conhecimento da Biodiversidade (</a:t>
                      </a:r>
                      <a:r>
                        <a:rPr b="1" lang="pt-BR" sz="9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45154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125360"/>
          <a:ext cx="8229600" cy="5423040"/>
        </p:xfrm>
        <a:graphic>
          <a:graphicData uri="http://schemas.openxmlformats.org/drawingml/2006/table">
            <a:tbl>
              <a:tblPr/>
              <a:tblGrid>
                <a:gridCol w="1185840"/>
                <a:gridCol w="771480"/>
                <a:gridCol w="4408560"/>
                <a:gridCol w="1863720"/>
              </a:tblGrid>
              <a:tr h="26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lusão da Criação e Estruturação dos Comitês de Bacias Hidrográficas nas UPG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ização e Controle dos Usos de Recursos Hídr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G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da Água e do Cli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lusão do Plano Estadual d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ção e Aprovação dos Planos Diretores de Recursos Hídricos nas UPGRH´s selecion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uturação do Sistema Estadual de Informações sobr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s Agências de Bacias Hidrográficas ou Entidades a elas equipar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r a cobrança pelo Uso das Águas nas UPGRH´s selecion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 Outorga para Lançamento de Eflu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dastramento de Usos e Usuários d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da Ág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ção da Rede de Monitoramento da Qualidade da Ág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lhoria das Condições Sanitárias e Despoluição das Bacias Hidrográficas -  PRO-ÁGUA-M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19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0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3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24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5"/>
          <p:cNvSpPr/>
          <p:nvPr/>
        </p:nvSpPr>
        <p:spPr>
          <a:xfrm>
            <a:off x="395280" y="935640"/>
            <a:ext cx="8497800" cy="70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DE 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ORDIN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do Tesouro para os quais não existe destinação específ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ÊNIOS, ACORDOS E AJUS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FLORES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provenientes da ação fiscalizadora por intermédio do IE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ZAÇÃO DE RECURSOS HI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ei Federal nº.7.990 de 28/12/89. Recursos provenientes de indenização aos Estados e Municípios pela exploração, em seus territórios de recursos hídricos, para fins de geração de energia elétr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ENAÇÃO DE B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provenientes de alienação de bens que integram o patrimônio das entidades estadu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Picture 9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0"/>
          <p:cNvSpPr/>
          <p:nvPr/>
        </p:nvSpPr>
        <p:spPr>
          <a:xfrm>
            <a:off x="611280" y="7650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 DE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TAXA DE CONTROLE E FISCALIZAÇÃO  AMBIEN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iente da Lei nº. 14.940/2003. Exercício regular do poder de polícia conferido à FEAM e ao IEF para controle e fiscalização das atividades potencialmente poluidoras de recursos naturais;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RECURSOS DIRETAMENTE ARRECADAD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os proveniente do esforço próprio de arrecadação de órgãos e entidades do Est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DIRETAMENTE ARRECADADOS COM VINCULAÇÃO       ESPECÍFICA – IE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posição Florestal – Lei Estadual nº. 14.3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posição da Pesca – Lei Estadual  nº. 14.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ompensação Ambiental – Lei Federal nº. 9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539640" y="765000"/>
            <a:ext cx="79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 DE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EMA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çamento financiado com recursos das fontes: 10, 24 e 3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GA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10, 24, 31,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EA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31, 52 e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EF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24, 26, 31, 47,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, 60 e 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 ORDENADOR DE DESPES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68360" y="2133720"/>
            <a:ext cx="820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OA RESPONSÁVEL E INVESTIDA DE AUTORIDADE SUFICIENTE PARA PRATICAR O ATO DE EMPENH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ORDENADOR DE DESPESA É O  MAIS GRADUADO DIRIGENTE DE PODER OU DE ENTIDADE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PONSABILIDADE DO ORDENADOR DE DESPESA É TOTAL, PESSOAL E INTRANSFERÍVEL E ELE RESPONDE COMO PESSOA FÍSICA, E NÃO COMO TITULAR DA P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ORDERNADOR DE DESPESAS SÓ PODERÁ SER EXONERADO DE SUA RESPONSABILDADE APÓS JULGADAS REGULARES SUAS CONTAS PELO TRIBUNAL DE CO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ADOR DE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468360" y="2349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 SER DELEGADA AUTORIDADE DE ORDENADOR DE DESPESA A OUTRO SERVIDOR; NÃO SE  DELEGA A RESPONSABILIDADE, OS DOIS PASSAM A SER CO-RESPONSÁVEIS PELOS EMPEN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MPENHO DA DESPESA NÃO PODERÁ EXCEDER  O LIMITE DOS CRÉDITOS ORÇAMENTÁRIOS CONC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VEDADA A REALIZAÇÃO DE DESPESA SEM PRÉVIO EMPEN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A DE EMPENHO É O DOCUMENTO QUE INDICARÁ O NOME DO CREDOR, A CLASSIFICAÇÃO DA DOTAÇÃO ORÇAMENTÁRIA, A DESCRIÇÃO DA DESPESA E O SEU VA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ordenadoria de Planejamento e Orçam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qui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yriam Maria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elena Souza Cam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vone Barb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eila And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teus Mora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rcamento@semad.mg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e: 3219.50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te para consulta de detalhamento do orçamento e classificador de desp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ww.planejamento.mg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Palestrante: Myriam Maria da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Data: 20 e 2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95640" y="19890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PROGRAMAÇÃO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Logo FEAM"/>
          <p:cNvPicPr/>
          <p:nvPr/>
        </p:nvPicPr>
        <p:blipFill>
          <a:blip r:embed="rId1"/>
          <a:srcRect l="0" t="-4141" r="-3371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logo ief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LogoIGAM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Object 12"/>
          <p:cNvGraphicFramePr/>
          <p:nvPr/>
        </p:nvGraphicFramePr>
        <p:xfrm>
          <a:off x="0" y="263700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3700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3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4" descr="logo governo 2007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85760" y="981000"/>
            <a:ext cx="34718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4e3b"/>
                </a:solidFill>
                <a:latin typeface="Arial"/>
              </a:rPr>
              <a:t>Relatório de Situ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11"/>
          <a:srcRect l="2931" t="23438" r="3319" b="9180"/>
          <a:stretch/>
        </p:blipFill>
        <p:spPr>
          <a:xfrm>
            <a:off x="0" y="17146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7000" y="-491148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11"/>
          <a:srcRect l="2931" t="6836" r="2587" b="28711"/>
          <a:stretch/>
        </p:blipFill>
        <p:spPr>
          <a:xfrm>
            <a:off x="0" y="1000080"/>
            <a:ext cx="9215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2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3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-491148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ERAÇÃO DE COTAS ORÇAMENT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68360" y="1989000"/>
            <a:ext cx="8207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  ACORDO  COM   A   LEGISLAÇÃO,  IMEDIATAMENTE  APÓS   A PROMULGAÇÃO DA LEI DE ORÇAMENTO E  COM BASE NOS LIMITES NELA  FIXADOS, O PODER  EXECUTIVO APROVARÁ UM QUADRO  DE COT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IMESTR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DESPESA PARA UTILIZAÇÃO DE CADA UNIDADE ORÇAM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GURAR ÀS UNIDADES A SOMA DOS RECURSOS NECESS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R EQUILÍBRIO ENTRE RECEITA E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4067280" y="378936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0" y="-1637640"/>
            <a:ext cx="9325080" cy="10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IBERAÇÃO DE COTAS ORÇAMENTÁ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AÇÕES DE PROJETOS ASSOCIAD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Adequação e liberação de cotas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as de acordo com o montante de recursos estipulados n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drime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exo I do Decreto nº. 44.716 de 08/02/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stei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       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nvestiment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1º. Quadrimestre:         30%                                 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2º. Quadrimestre:         35%                                  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3º. Quadrimestre:         35%                                  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AÇÕES   DE   PROJETOS   ESTRUTURADORE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   Liberação  de  cot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as  após reunião mensal com a SEPLAG – fechamento do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latório de Situação – Status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liberação das cotas orçamentárias, estão condicionadas à arrecad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52340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ROGRAMAÇÃO ORÇAMENTÁRIA MENSAL - PR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cc"/>
                </a:solidFill>
                <a:latin typeface="Arial"/>
              </a:rPr>
              <a:t>PLANILHAS DE PROGRAMAÇÕES MENSAI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Ações de Projetos Estruturadores + Ações de Projetos Associado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Encaminhamento à Superintendência de Planejamento e Modernização,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impreterivelmente,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até o 5º dia útil de cada mê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 programações deverão ser consolidadas por ação, indicando a codificação e assinatura do gerente / ordenador de desp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rogramação das ações dos Projetos Estruturadores, será a mesma a ser apresentada na reunião com a SEPLAG - Status Re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0" y="1200240"/>
            <a:ext cx="87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55640" y="1052640"/>
          <a:ext cx="7272360" cy="4827600"/>
        </p:xfrm>
        <a:graphic>
          <a:graphicData uri="http://schemas.openxmlformats.org/drawingml/2006/table">
            <a:tbl>
              <a:tblPr/>
              <a:tblGrid>
                <a:gridCol w="1085760"/>
                <a:gridCol w="727200"/>
                <a:gridCol w="3887640"/>
                <a:gridCol w="1571760"/>
              </a:tblGrid>
              <a:tr h="263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ão Ambiental Descentralizada (Superintendências Regionais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da Fiscalização Ambiental Integ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e Extens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enação Téc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Projetos de Gest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ização do Licenciament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ção de Projetos de intervenções de saneamento para os municípios fora da concessão da Cop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o de Comunicação - Meta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uturação dos Parques Estaduais e dos Atrativos Natu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rvação de mananciais e Controle de 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talecimento da Gestão de Resíduos Sól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-433440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07920"/>
          <a:ext cx="7643880" cy="5689800"/>
        </p:xfrm>
        <a:graphic>
          <a:graphicData uri="http://schemas.openxmlformats.org/drawingml/2006/table">
            <a:tbl>
              <a:tblPr/>
              <a:tblGrid>
                <a:gridCol w="1255680"/>
                <a:gridCol w="790560"/>
                <a:gridCol w="4000680"/>
                <a:gridCol w="1596960"/>
              </a:tblGrid>
              <a:tr h="249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824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imento de Instrumentos de Incentivo à Gestão Adequada de Resíduos Sól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tenção do Centro Mineiro de Referência em Resíduos e Alcance de Auto-sustentabi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Implementação de Sistemas de Disposição Final Adequada - Minas sem Lixõ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imização de Sistemas de Gestão Adequada de Resíduos Sólidos por Empreendimentos Ge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e Extens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 Coleta Seletiva, Reaproveitamento e Recicl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Implantação dos Planos de Gerenciamento de Resíduos de Serviços de Saú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s Cooperativas e Associações de Materiais Recicláveis(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P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Fiscalização Ambiental Integ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Ambiental do Ar e dos Sol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dos Passivos Ambientais da Miner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imento de Tecnologias para Fontes Alternativas de Energia e Produção Mais Lim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14:56Z</dcterms:created>
  <dc:creator>Daniela Giordano</dc:creator>
  <dc:description/>
  <dc:language>en-US</dc:language>
  <cp:lastModifiedBy>myriam.silva</cp:lastModifiedBy>
  <dcterms:modified xsi:type="dcterms:W3CDTF">2008-02-20T14:49:47Z</dcterms:modified>
  <cp:revision>58</cp:revision>
  <dc:subject/>
  <dc:title>Slide 1</dc:title>
</cp:coreProperties>
</file>