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FFF-EA47-4E61-ABE6-42C36E75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0A3-73D1-454C-BB97-5E9E900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914-E9FA-4785-849D-FA3A61F9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DFD-6B45-42BF-9314-0D9B140C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6C-666B-444A-8165-0A5DDDD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288-29CF-4CC8-9AF0-8CDA26C9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F3C-498B-4433-8422-129CC60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EA9-2168-4FCB-AF62-A5C6798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504-0015-4DBA-8DAD-1F14B35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83A-4A6F-4815-8C23-C4D2901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4EF-F75A-4C4D-9BCD-9E4F664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112-A6C6-4B72-80F1-277BD3D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139-06C1-44B7-8F50-03139C465B1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3336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Century Gothic"/>
              </a:rPr>
              <a:t>ORDEM DE SERVIÇO Nº. 03, DE 18 DE FEVEREIRO 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2708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08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1557360"/>
            <a:ext cx="7775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Art. 3º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Os processos que não atendiam às disposições anteriores eram devolvidos para a devida adequ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s processos que não atenderem à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isposições anteriores </a:t>
            </a:r>
            <a:r>
              <a:rPr b="1" lang="pt-BR" sz="2500" spc="-1" strike="noStrike" u="sng">
                <a:solidFill>
                  <a:srgbClr val="0000ff"/>
                </a:solidFill>
                <a:uFillTx/>
                <a:latin typeface="Arial"/>
              </a:rPr>
              <a:t>não serão recebid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Superintendência de Recursos logísiticos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 Manuten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81080" y="1557360"/>
            <a:ext cx="842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Tratando-se de processo admistrativo para realização de licitação, o pedido de abertura do processo de licitação deve ser acompanhado de autorização da autoridade compet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formulário de solicitação mensal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recurs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será utilizado como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pedido de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abertura do processo de licitação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, desde qu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ssinado pelo ordenador de despesa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la a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art. 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1614600"/>
            <a:ext cx="83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em certificava a existência de recursos orçamentários e financeiros era Coordenadoria de Planejamento 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vai certificar a exist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orçamentários e financeiros é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Planejamento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rnização Institucional, certificando a font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despesa no formulário de solicit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l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. (somente após 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rtificação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será remetido à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os logísticos 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 processo era remetido à CPL para elaboração de Ed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verá ser remetido à COGES 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agem do processo e 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minhamento à CPL, que promoverá todos 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âmites legais que o processo re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no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uta do edital deverá ser anexada ao processo (também por meio magnético) e encaminhada á Assessoria/Procuradoria Jurídica compentente para análise, aprovação e elaboração nota jurídica, conforme parágrafo único do art 38 da Lei 8.666/93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processo conjunto – aquele que envolva mais de um órgão ou entidade do SISEMA – a ratificação poderá ser feita  por qualquer um dos procuradores dos órgãos ou entidades participantes do pro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1614600"/>
            <a:ext cx="831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5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’s, a elaboração da minuta e aprovação deverão ser efetuados pela Assessoria Jurídica local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§6º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do o edital o mesmo será impresso pelas Procuradoria/Assessoria que o remeterá à CPL devidamente rubricadoe numerado. A CPL providenciará a publicação do Edital, sendo aberto o prazo constante na legislação para que as empresas apresentem pro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ões dos § 3º, 4º, 5º e 6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1614600"/>
            <a:ext cx="83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stituído pelo §3º do art 4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Nova redação: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 a licitação, 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contendo a ata, as propostas e 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exigida, conforme Anexos de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Serviços, será encaminhado à Assessoria/Procuradoria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Principais alterações no art 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1614600"/>
            <a:ext cx="8317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Assessoria/Procuradoria Jurídica analisará a fase externa da licitação, observando se foram cumpridas todas as exigências legais e em seguida elaborará nota jurídica opinando favoravelmente ou não sobre a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ndo o procedimento em conformidade com a legislação, a nota jurídica será encaminhada à CPL acompanhada do termo de homologaç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termo de homologação será encaminhado à CPL que providenciará as assinaturas  da(s) autoridades(s) competente(s) e posterior public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Inclusão dos § 1º, 2º e , 3º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4000" y="1989000"/>
            <a:ext cx="75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Com o novo fluxo e com as novas diretrizes do SISEMA, um novo arranjo, com novas definições teve que ser feita a partir do art 6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24000" y="1989000"/>
            <a:ext cx="77752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6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 publicado o termo de homologação, caso seja necessário, a CPL deverá elaborar o contrato e encaminha-lo ao Núcleo de Apoio à Gestão de Suprimentos e Contratos para verificação dos dados relativos ao contrat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§ únic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s assinaturas das partes serão colhidas pela CPL e encaminhadas ao Núcleo de Apoio à Gestão de Suprimentos e Contratos, que providenciará a publicação do contrato.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6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24000" y="1706400"/>
            <a:ext cx="8280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-se com a nova Ordem de Serviç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r as alterações e os impactos que a nova Sistemática de Solicitação Mensal de Recursos trará para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imizar os procedimentos internos no que tange à sistemática de compras, contratos e 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imir todas as dúvidas inerentes aos procedimentos da nova siste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90792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24000" y="1700280"/>
            <a:ext cx="77752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Art. 7º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de responsabilidade das regionais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’s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lização e realização dos proces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citató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1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ns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l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issão de nota jurídica quanto 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ação d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uta de edital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à homologação 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ós elaboração do contrato a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adoria/assessori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verá encaminhar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ato para publicação no Núcle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io à Gestã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imentos e Contr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7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413000"/>
            <a:ext cx="7775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8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Dispensa / Inexigibilidade de Licitação, observado o disposto no art. 3º e no art. 4º, o processo será devidamente instruído com Justificativa, Termo de Referência, Autorização do Ordenador e toda a documentação necessária, conforme estabelecido no Anexo I desta Ordem de Serviço e será encaminhado para a Procuradoria/Assessoria Jurídica que elaborará Nota sobre a viabilidade jurídica e adequação do pedido de contratação a uma das modalidades de dispensa/inexigibilidade de licitação ra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8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324000" y="177336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2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9280" y="1773360"/>
            <a:ext cx="864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3º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pela Procuradoria/Assessoria Jurídica, que encaminhará o processo à Superintendência de Recursos Logísticos e Manutenção, instruído com 3 (três) vias do contrato para colher as assinaturas. Após assinado, o Contrato, será publicado pela Procuradoria/Assessoria Jurídica. As vias do contrato deverão ser distribuídas da seguinte forma, 1 (uma) via deverá ser anexada ao processo, e 1 (uma) via para a parte contratad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3º do Art 8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324000" y="1413000"/>
            <a:ext cx="7775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6600"/>
                </a:solidFill>
                <a:latin typeface="Arial"/>
              </a:rPr>
              <a:t>Art. 9º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cado o contrato, o processo será encaminhado à Coordenadoria de Contratos ou Coordenadoria de Gestão de Suprimentos, para finalização de procedimento no SIAD. As regras de acompanhamento dos contratos de serviço serão estabelecidas entre as Coordenadorias de Contrato e Núcleo de Serviços pela Superintendência de Recursos Logísticos e Manutenção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9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24000" y="1413000"/>
            <a:ext cx="777528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Art. 10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 pelo dirigente máximo do órgão ou entida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</a:rPr>
              <a:t>Art 10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324000" y="1773360"/>
            <a:ext cx="835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§1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à Superintendência de Modernização Institucional que certificará quanto à disponibilidade orçamentária para o aditamento em questão, e confirmará, por meio de ato formal, a aquiescência do responsável pela ação a que o contrato está vinculado. Caso o aditamento não envolva disponibilidade financeira, o pedido de alteração será encaminhado diretamente para a Coordenadoria de Gestão de Contrat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2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minuta do Termo Aditivo será elaborado em conjunto entre a Coordenadoria de Gestão de Contratos e o Núcleo de Apoio à Gestão de Suprimentos e Contra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1º e 2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24000" y="1773360"/>
            <a:ext cx="835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3º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 Núcleo de Apoio à Gestão de Suprimentos e Contratos deverá encaminhar o termo aditivo à Procuradoria/Assessoria Jurídica respectiva para análise, e elaboração de Nota Juríd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00"/>
                </a:solidFill>
                <a:latin typeface="Arial"/>
              </a:rPr>
              <a:t>§4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provada a minuta, a Coordenadoria de Gestão de Contratos colherá as assinaturas das partes e o Núcleo de Apoio à Gestão de Suprimentos e Contratos publicará o Termo Aditiv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§ 3º e 4º do Art 10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179280" y="17733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1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Às Assessorias/procuradorias Jurídicas deverão orientar quanto à interpretação dos atos normativos a  serem  cumpridos pelo órgão ou entidades conforme previsto na Lei Complementar 75/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7928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Art. 12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umeração dos contratos, será feita no Núcleo de Apoio à Gestão de Suprimentos e Contratos ou Procuradoria/Assessoria, ficando estabelecido que cada órgão terá sua numeração própria de acordo com a unidade orçamentária. O controle da numeração contratual será feito no Protocolo da Secretaria de cada órgão e seguirá os critérios  descritos na Ordem de Serviço cujo número se iniciará com a unidade orçamentá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907920"/>
            <a:ext cx="7848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6600"/>
                </a:solidFill>
                <a:latin typeface="Arial"/>
              </a:rPr>
              <a:t>Art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4000" y="155736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de contratação eram direcionados à Superintendência de Logística, com aprovação Diretoria ou Superintendências (maioria das vezes MEMO simp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pedidos serão direcionados 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intendência de Modernização Institu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ário de solicitação mensal de recur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 aprovação pelo responsável pela ação ou gerente d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art.1º 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6000" y="6237360"/>
          <a:ext cx="914400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6237360"/>
                    <a:ext cx="9144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395280" y="2708280"/>
            <a:ext cx="8280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erson do Carmo Dini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Recursos Logísticos e Manuten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1-3219.57.6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ntatos para sugestões e dúv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4000" y="1573200"/>
            <a:ext cx="792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Para aquisição bens de consumo e;ou permanentes era feita uma consulta formal prévia de disponibilidade de material à Superintendência d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ra aquisição bens de 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e;o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erman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nsult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ass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er feita na </a:t>
            </a:r>
            <a:r>
              <a:rPr b="1" lang="pt-BR" sz="2500" spc="-1" strike="noStrike">
                <a:solidFill>
                  <a:srgbClr val="0000ff"/>
                </a:solidFill>
                <a:latin typeface="Arial"/>
              </a:rPr>
              <a:t>Coordenadoria de infra-Estrutura e Logística do SISEMA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9079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1844640"/>
            <a:ext cx="849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quisição de bens permanentes eram autorizadas pelo Subsecretário de Inovação e Log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quisição de bens permanentes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a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o anual de supriment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que foi elaborado e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neiro,somente será efetuada co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Subsecretário de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novação e Logístic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9079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ipais alterações § 2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encaminhado à Coordenadoria de Gestão de Suprimen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 pedido deverá ser encaminhado à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erintendência 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lanejamento 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odernização Institucional do SISEM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exando 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formulário de solicitação 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3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1557360"/>
            <a:ext cx="7775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Não era previsto o formulário de solicitação mensal de recursos para os casos de Dispensa/Inexigibilidad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processos que envolvam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ensa/Inexigibilidade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verão estar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previstos no formulário de solicitação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nsa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 recurs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4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557360"/>
            <a:ext cx="77756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O pedido era instruído com autorização da autoridade competente, nos termos das resoluções pertine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s responsáveis pela ação e/ou gerent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projeto serão designados por resoluçã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junta específica (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assarão a ser o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esponsáveis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la autorização do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edid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5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55736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nterior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: (...) com autorização do respectivo Dire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ff0000"/>
                </a:solidFill>
                <a:latin typeface="Arial"/>
              </a:rPr>
              <a:t>Atual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(...) com cópia do formulário d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solicitação mensal de recursos (Neste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ocumento se consegue avaliar todo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histórico do processo, inclusive se o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responsável pela ação já autorizou o pedid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Obs: Fica padronizado que as páginas dos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processos serão numeradas de forma 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</a:rPr>
              <a:t>crescen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§ único, sem altera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907920"/>
            <a:ext cx="78483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incipais alterações art. 2º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2:33Z</dcterms:created>
  <dc:creator>SIL</dc:creator>
  <dc:description/>
  <dc:language>en-US</dc:language>
  <cp:lastModifiedBy>semad</cp:lastModifiedBy>
  <dcterms:modified xsi:type="dcterms:W3CDTF">2008-02-18T16:02:30Z</dcterms:modified>
  <cp:revision>42</cp:revision>
  <dc:subject/>
  <dc:title>Slide 1</dc:title>
</cp:coreProperties>
</file>