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53C-4035-4992-83DC-EA8F6D08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67C-7415-4955-99FF-1DF7515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8E1-088D-48B6-B8F9-E17C1C58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B7A-815D-4FD8-86DD-C3CB95A9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D17-32C3-423F-AF4A-FAB524C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ED3-C92A-47EF-8B61-01D9A85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C80-E1BD-43B8-905C-B1451C8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9D6-33B5-4BA4-9A38-25D4AD8B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0C1-32FE-4351-A3DF-23741294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054-084B-4D3D-B78A-E1D10B3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8AB-D6E5-40FA-9737-38458BA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984-2D4C-4624-9BEF-357D35BE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F4E1-41C2-49C3-A06F-3AB3F1F5BD3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hyperlink" Target="mailto:carlyle.laia@semad.mg.gov.br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hyperlink" Target="http://www.convenentes.mg.gov.br/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268280"/>
            <a:ext cx="87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astro geral de convenentes – CAG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do pelo Decreto 44.293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2200" y="308916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enciamento e habitação dos órgãos e entidades interessados em celebrar convênios no âmbito do Estado de Minas Gerais, gerenciado pela Auditoria Geral d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0000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necessário para celebração de convênios -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2560" y="2649600"/>
            <a:ext cx="851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to a ser executad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atuto do convenen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cumentação do dirigente ( CPF, CI, Comprovan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dereço e ato de posse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rtidões negativas ( FGTS, PIS/PASEP, CND 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ação de contraparti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86508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O FORM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ÊNIOS DE SA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133720"/>
            <a:ext cx="1368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7440" y="2133720"/>
            <a:ext cx="1511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2160" y="2133720"/>
            <a:ext cx="107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7640" y="213372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221000"/>
            <a:ext cx="1513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pro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festa inter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preenche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Trabal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83160" y="4221000"/>
            <a:ext cx="18968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e emite pare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3080" y="4221000"/>
            <a:ext cx="1584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 docum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 minuta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minha 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íd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4221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, em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c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la o termo, c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he assinatura e pu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508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454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6560" y="2492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4320" y="24955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1280" y="248616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30560" y="2125800"/>
            <a:ext cx="11174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24861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422100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a disponi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çamentária/financ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00000" y="865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O CONVÊNIO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2133720"/>
            <a:ext cx="1368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61080" y="2133720"/>
            <a:ext cx="1511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2133720"/>
            <a:ext cx="10796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422100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abora projeto, preen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o de trabalho e enc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nha ao conce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4221000"/>
            <a:ext cx="2158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proposta do convê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provado assinar o ter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4221000"/>
            <a:ext cx="194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e conta específ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úne docu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astra plano de trabal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a contra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6036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49840" y="2492280"/>
            <a:ext cx="963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249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3840" y="2125800"/>
            <a:ext cx="11174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2486160"/>
            <a:ext cx="82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221000"/>
            <a:ext cx="2017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forma disponi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 recursos orçamentari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anceiro de contra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00000" y="122220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CON-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do pelo Decreto 44.424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6200" y="321480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para acompanhar, coordenar e controlar os instrumentos de natureza financeira que permitam a entrada e de saída de recurso no Tesouro Esta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1268280"/>
            <a:ext cx="78487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O DE TRABA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o instrumento que integra a solicitação de convênio, contendo todo o detalhamento das responsabilidades assumidas por cada um dos partícipes. É o documento elaborado pelo convenente titular da instituição responsável pelo programa, constituindo-se na peça mais importante para obtenção dos recursos, vez que servirá de base para o estabelecimento das cláusulas do convênio, a sua execução, controle, fiscalização e prestação de co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1413000"/>
            <a:ext cx="8136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lano de trabalho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ões que justifiquem a celebração do convên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ção completa do projeto a ser execut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etas e fases qualitativas e quantitativas, com previsão de início e f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são expressa dos critérios objetivos de avaliação de desempenho a serem utiliz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nograma e o plano de aplicação dos recursos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rapartida financeira do proponente, se for o caso, para cada projeto ou ev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 do bem a ser produzido ou adqui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2262240" y="907920"/>
          <a:ext cx="5838840" cy="5545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2240" y="907920"/>
                    <a:ext cx="58388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919160" y="865080"/>
          <a:ext cx="5964480" cy="5659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19160" y="865080"/>
                    <a:ext cx="596448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2016000" y="749160"/>
          <a:ext cx="5796000" cy="5704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16000" y="749160"/>
                    <a:ext cx="5796000" cy="57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alestr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entury Gothic"/>
              </a:rPr>
              <a:t>Treinamento de </a:t>
            </a:r>
            <a:r>
              <a:rPr b="0" lang="en-US" sz="3600" spc="-1" strike="noStrike">
                <a:solidFill>
                  <a:srgbClr val="4d4d4d"/>
                </a:solidFill>
                <a:latin typeface="Century Gothic"/>
              </a:rPr>
              <a:t>Planejamento</a:t>
            </a:r>
            <a:r>
              <a:rPr b="0" lang="en-US" sz="3200" spc="-1" strike="noStrike">
                <a:solidFill>
                  <a:srgbClr val="4d4d4d"/>
                </a:solidFill>
                <a:latin typeface="Century Gothic"/>
              </a:rPr>
              <a:t> e Gest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45600" y="3016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na Mesquita e Carlyle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5800" y="3305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/02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865080"/>
            <a:ext cx="835200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e autorizar alterações no convênio, mediante justificativas, após acordado com a Diretoria técn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mpanhar a execução física e financeira do convên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o relatório físico e apresentar o relatório técnico (convênio de entrada de recurs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r o relatório técnico e aprovar o relatório físico – financeiro (convênio de saída de recurs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tar para a vigência do convê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268280"/>
            <a:ext cx="8352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 Plano de Trabalho bem elaborado e um acompanhamento das metas e fases do convênio pelo Gestor, significa uma boa execuçã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413000"/>
            <a:ext cx="835164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ICITAÇÃO DE PAGAMENTO DOS CONVÊ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ordenadoria de Convênios informará mensalmente através de MEMO aos Gerentes de Ação a situação da prestação de contas dos convenentes para que sejam liberadas as próximas parc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rente da Ação deverá aprovar e incluir no planejamento os convênios, informando qual a fonte financi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6720" y="1268280"/>
            <a:ext cx="835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71640" y="24242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5280" y="24242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53440" y="24224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98920" y="3862440"/>
            <a:ext cx="129672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mbo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5280" y="3863880"/>
            <a:ext cx="13683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entr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64360" y="3863880"/>
            <a:ext cx="1871640" cy="12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ere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gramaçã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o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0108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5560" y="968400"/>
            <a:ext cx="58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UXO DE DESEMBOL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ÊNIOS DE SAÍ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26384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99280" y="2629080"/>
            <a:ext cx="11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2424240"/>
            <a:ext cx="187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enad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Convê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3862440"/>
            <a:ext cx="216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 situ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prestaçã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s do conve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29289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9240" y="263844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295280" y="119700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1432080"/>
            <a:ext cx="777528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ção Normativa n.º 07/200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der ao Tribunal de Contas do Estado de Minas Gerais através da Instrução normativa nº. 07/03 que estabelece normas de fiscalização contábil, financeira, orçamentária, operacional e patrimonial nas administrações Direta e Indireta do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: Os Regionais e Supram’s devem encaminhar os anexos até o dia 20 de cada mês, impreterive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59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2254320"/>
            <a:ext cx="81532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Superintendente: Carlyle dos Passos La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-mail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arlyle.lai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elefone: (031) 321954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Coordenadoria de Convên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-mail: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alanna.mesquit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Coordenadora: Alanna Mesquita Gonça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elefone: (031) 321954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143000"/>
            <a:ext cx="80773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Superintendência de Contabilidade e Finanç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7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9548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420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921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êni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is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or de Convên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icitação de Pag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ão Normativa 07/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86421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ê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o que disciplina a transferência de recursos públicos da Administração Pública Estadual, para órgãos e entidades de qualquer nível de governo ou para instituições privadas, visando a execução de programas de trabalho ou de outros eventos com duração certa, em regime de mútua co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1413000"/>
            <a:ext cx="864216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o de Coo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o instrumento utilizado para formalizar inter-relações de cooperação técnica que não envolvam transferência de recursos financ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1413000"/>
            <a:ext cx="864216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âmbito do Estado de Minas Gerais, a celebração e prestação de contas de convênios de natureza financeira que tenham por objeto a execução de projetos ou a realização de eventos está regulamentada pelo Decreto n.º 43.635, de 20 de outubro de 2003 e Lei 8.666/9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esfera Federal os convênios são regulamentados pela Instrução Normativa nº 01/97 e Lei 8.666/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1413000"/>
            <a:ext cx="8064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ES DO CONVÊ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ção/formaliz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tação de Co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1341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1052640"/>
            <a:ext cx="7129440" cy="54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BORAÇÃ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jeto a ser encaminhado deve co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ítu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sent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o/contextua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de realização e área de abrangê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ições envolvidas no proje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 e atividad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olog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mos ou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0000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necessário para celebração de convênios - sa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560" y="2448000"/>
            <a:ext cx="9242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Manifestação do convenente com projet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adastro Regular na Auditoria Geral do Estado – CAGE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convenentes.mg.gov.b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arecer da área técnic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Dotação orçamentári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arecer Juríd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semad</cp:lastModifiedBy>
  <dcterms:modified xsi:type="dcterms:W3CDTF">2008-02-19T13:06:30Z</dcterms:modified>
  <cp:revision>64</cp:revision>
  <dc:subject/>
  <dc:title>Slide 1</dc:title>
</cp:coreProperties>
</file>